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move the slide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alkboard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使用</a:t>
            </a:r>
            <a:r>
              <a:rPr b="0" lang="en-US" sz="11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for</a:t>
            </a:r>
            <a:r>
              <a:rPr b="0" lang="zh-CN" sz="11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语句的一般形式改写成</a:t>
            </a:r>
            <a:r>
              <a:rPr b="0" lang="en-US" sz="11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while</a:t>
            </a:r>
            <a:r>
              <a:rPr b="0" lang="zh-CN" sz="11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循环的形式：</a:t>
            </a:r>
            <a:endParaRPr b="0" lang="en-US" sz="11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表达式</a:t>
            </a:r>
            <a:r>
              <a:rPr b="0" lang="en-US" sz="11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；</a:t>
            </a:r>
            <a:endParaRPr b="0" lang="en-US" sz="11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while(</a:t>
            </a:r>
            <a:r>
              <a:rPr b="0" lang="zh-CN" sz="11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表达式</a:t>
            </a:r>
            <a:r>
              <a:rPr b="0" lang="en-US" sz="11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2)</a:t>
            </a:r>
            <a:endParaRPr b="0" lang="en-US" sz="11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语句；</a:t>
            </a:r>
            <a:endParaRPr b="0" lang="en-US" sz="11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表达式</a:t>
            </a:r>
            <a:r>
              <a:rPr b="0" lang="en-US" sz="11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3</a:t>
            </a:r>
            <a:r>
              <a:rPr b="0" lang="zh-CN" sz="11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；</a:t>
            </a:r>
            <a:endParaRPr b="0" lang="en-US" sz="11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eiti SC Light"/>
              </a:rPr>
              <a:t>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k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eiti SC Light"/>
              </a:rPr>
              <a:t>语句可以使流程跳出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tch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eiti SC Light"/>
              </a:rPr>
              <a:t>结构，继续执行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tch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eiti SC Light"/>
              </a:rPr>
              <a:t>语句下面的一个语句。</a:t>
            </a:r>
            <a:endParaRPr b="0" lang="en-US" sz="1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>
              <a:spcBef>
                <a:spcPts val="901"/>
              </a:spcBef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>
              <a:spcBef>
                <a:spcPts val="901"/>
              </a:spcBef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607160" y="2946240"/>
            <a:ext cx="41277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52812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883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22976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12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1269720" y="1066320"/>
            <a:ext cx="10464840" cy="762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84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34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096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1796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body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87320" y="1510920"/>
            <a:ext cx="1143000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787320" y="5308200"/>
            <a:ext cx="11430000" cy="189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1" algn="ctr"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2" algn="ctr"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3" algn="ctr"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4" algn="ctr"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5" algn="ctr"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6" algn="ctr"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53712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907200" indent="-53676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32516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74276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2160360" indent="-53676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786960" y="2768400"/>
            <a:ext cx="527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44568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75276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09944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44612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179280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786960" y="2768400"/>
            <a:ext cx="527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44568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75276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09944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44612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179280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86960" y="1981080"/>
            <a:ext cx="5270760" cy="334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86960" y="5308560"/>
            <a:ext cx="5270760" cy="246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algn="ctr">
              <a:spcBef>
                <a:spcPts val="1199"/>
              </a:spcBef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algn="ctr">
              <a:spcBef>
                <a:spcPts val="1199"/>
              </a:spcBef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87320" y="7188120"/>
            <a:ext cx="1143000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787320" y="8445600"/>
            <a:ext cx="1143000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algn="ctr">
              <a:spcBef>
                <a:spcPts val="1199"/>
              </a:spcBef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algn="ctr">
              <a:spcBef>
                <a:spcPts val="1199"/>
              </a:spcBef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40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762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672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928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946920" y="2768400"/>
            <a:ext cx="52704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44568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75276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09944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44612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179280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body"/>
          </p:nvPr>
        </p:nvSpPr>
        <p:spPr>
          <a:xfrm>
            <a:off x="787320" y="1257480"/>
            <a:ext cx="11430000" cy="723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965160" indent="-57132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409760" indent="-57168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854360" indent="-57168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2298600" indent="-57132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2298600" indent="-571320">
              <a:spcBef>
                <a:spcPts val="42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2298600" indent="-571320">
              <a:spcBef>
                <a:spcPts val="42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269720" y="7365960"/>
            <a:ext cx="1046484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71680" indent="-571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1015920" indent="-571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460520" indent="-571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905120" indent="-571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2349360" indent="-571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2349360" indent="-571320">
              <a:spcBef>
                <a:spcPts val="9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2349360" indent="-571320">
              <a:spcBef>
                <a:spcPts val="9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53712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907200" indent="-53676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32516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74276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2160360" indent="-53676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596520" y="493992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596520" y="179028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739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23660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721520" indent="-36936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224208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第六章：循环结构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for</a:t>
            </a: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语句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925" name="" descr=""/>
          <p:cNvPicPr/>
          <p:nvPr/>
        </p:nvPicPr>
        <p:blipFill>
          <a:blip r:embed="rId2"/>
          <a:stretch/>
        </p:blipFill>
        <p:spPr>
          <a:xfrm>
            <a:off x="8623440" y="2616120"/>
            <a:ext cx="2755800" cy="541044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/>
          <p:nvPr/>
        </p:nvSpPr>
        <p:spPr>
          <a:xfrm>
            <a:off x="1549440" y="2432160"/>
            <a:ext cx="6413400" cy="55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语句使用最为灵活，不仅可以用于循环次数已经确定的情况，而且可以用于循环次数不确定而只给出循环结束条件的情况，它完全可以代替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l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语句。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一般形式为：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(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Heiti SC Light"/>
              </a:rPr>
              <a:t>表达式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Heiti SC Light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Heiti SC Light"/>
              </a:rPr>
              <a:t>表达式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Heiti SC Light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Heiti SC Light"/>
              </a:rPr>
              <a:t>表达式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Heiti SC Light"/>
              </a:rPr>
              <a:t>3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Heiti SC Light"/>
              </a:rPr>
              <a:t>语句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Heiti SC Light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说明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8" name=""/>
          <p:cNvSpPr/>
          <p:nvPr/>
        </p:nvSpPr>
        <p:spPr>
          <a:xfrm>
            <a:off x="800280" y="2521080"/>
            <a:ext cx="11391840" cy="57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)for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Heiti SC Light"/>
              </a:rPr>
              <a:t>语句的一般形式中的“表达式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1”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可以省略，此时应在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for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Heiti SC Light"/>
              </a:rPr>
              <a:t>语句之前给循环变量赋初值。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)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Heiti SC Light"/>
              </a:rPr>
              <a:t>如果表达式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Heiti SC Light"/>
              </a:rPr>
              <a:t>省略，即不判断循环条件，循环无终止地进行下去。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3)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Heiti SC Light"/>
              </a:rPr>
              <a:t>表达式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Heiti SC Light"/>
              </a:rPr>
              <a:t>也可以省略，但此时程序设计者应另外设法保证循环能正常结束。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4)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Heiti SC Light"/>
              </a:rPr>
              <a:t>可以省略表达式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Heiti SC Light"/>
              </a:rPr>
              <a:t>和表达式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Heiti SC Light"/>
              </a:rPr>
              <a:t>，只有表达式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Heiti SC Light"/>
              </a:rPr>
              <a:t>，即只给循环条件。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5)3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Heiti SC Light"/>
              </a:rPr>
              <a:t>个表达式都可省略。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6)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Heiti SC Light"/>
              </a:rPr>
              <a:t>表达式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Heiti SC Light"/>
              </a:rPr>
              <a:t>可以是设置循环变量初值的赋值表达式，也可以是与循环变量无关的其他表达式。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7)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Heiti SC Light"/>
              </a:rPr>
              <a:t>表达式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Heiti SC Light"/>
              </a:rPr>
              <a:t>一般是关系表达式或逻辑表达式，但也可以是数值表达式或字符表达式，只要其值为“真”，就执行循环体。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循环的嵌套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0" name=""/>
          <p:cNvSpPr/>
          <p:nvPr/>
        </p:nvSpPr>
        <p:spPr>
          <a:xfrm>
            <a:off x="1549440" y="3225960"/>
            <a:ext cx="1018548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一个循环体内又包含另一个完整的循环结构，称为循环的嵌套。内嵌的循环中还可以嵌套循环，这就是多层循环。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种循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hile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循环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…while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循环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循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可以相互嵌套。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几种循环的比较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2" name=""/>
          <p:cNvSpPr/>
          <p:nvPr/>
        </p:nvSpPr>
        <p:spPr>
          <a:xfrm>
            <a:off x="1168560" y="1968480"/>
            <a:ext cx="10667880" cy="74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)4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种循环都可以用来处理同一问题，一般情况下它们可以相互替代。但一般不提倡用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to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型循环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)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在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le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循环和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…while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循环中，只在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le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后面的括号内指定循环条件，因此为了使循环能正常结束，应在循环体中包含使循环趋于结束的语句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如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++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或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=i+1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等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3)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用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le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和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…while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循环时，循环变量初始化的操作应在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le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和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…while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语句之前完成。而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语句可以在表达式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中实现循环变量的初始化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4)while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循环、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…while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循环和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循环，可以用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eak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语句跳出循环，用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ue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语句结束本次循环。而对用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to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语句和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语句构成的循环，不能用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eak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语句和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ue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语句进行控制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break</a:t>
            </a: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语句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4" name=""/>
          <p:cNvSpPr/>
          <p:nvPr/>
        </p:nvSpPr>
        <p:spPr>
          <a:xfrm>
            <a:off x="1409760" y="3111480"/>
            <a:ext cx="101725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eak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还可以用来从循环体内跳出循环体，即提前结束循环，接着执行循环下面的语句。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continue</a:t>
            </a: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语句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6" name=""/>
          <p:cNvSpPr/>
          <p:nvPr/>
        </p:nvSpPr>
        <p:spPr>
          <a:xfrm>
            <a:off x="965160" y="3219480"/>
            <a:ext cx="110743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continue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语句作用是结束本次循环，即跳过循环体中下面尚未执行的语句，接着进行下一次是否执行循环的判定。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626053"/>
                </a:solidFill>
                <a:latin typeface="Baskerville"/>
                <a:ea typeface="华文宋体"/>
              </a:rPr>
              <a:t>例：把</a:t>
            </a:r>
            <a:r>
              <a:rPr b="0" lang="en-US" sz="4200" spc="-1" strike="noStrike">
                <a:solidFill>
                  <a:srgbClr val="626053"/>
                </a:solidFill>
                <a:latin typeface="Baskerville"/>
                <a:ea typeface="华文宋体"/>
              </a:rPr>
              <a:t>100~200</a:t>
            </a:r>
            <a:r>
              <a:rPr b="0" lang="zh-CN" sz="4200" spc="-1" strike="noStrike">
                <a:solidFill>
                  <a:srgbClr val="626053"/>
                </a:solidFill>
                <a:latin typeface="Baskerville"/>
                <a:ea typeface="华文宋体"/>
              </a:rPr>
              <a:t>之间的不能被</a:t>
            </a:r>
            <a:r>
              <a:rPr b="0" lang="en-US" sz="4200" spc="-1" strike="noStrike">
                <a:solidFill>
                  <a:srgbClr val="626053"/>
                </a:solidFill>
                <a:latin typeface="Baskerville"/>
                <a:ea typeface="华文宋体"/>
              </a:rPr>
              <a:t>3</a:t>
            </a:r>
            <a:r>
              <a:rPr b="0" lang="zh-CN" sz="4200" spc="-1" strike="noStrike">
                <a:solidFill>
                  <a:srgbClr val="626053"/>
                </a:solidFill>
                <a:latin typeface="Baskerville"/>
                <a:ea typeface="华文宋体"/>
              </a:rPr>
              <a:t>整除的数输出</a:t>
            </a:r>
            <a:endParaRPr b="0" lang="en-US" sz="42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938" name=""/>
          <p:cNvSpPr/>
          <p:nvPr/>
        </p:nvSpPr>
        <p:spPr>
          <a:xfrm>
            <a:off x="3165120" y="3004560"/>
            <a:ext cx="6654960" cy="49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main (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argc,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cons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char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* argv[]) 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AutoreleasePool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* pool = [[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AutoreleasePool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alloc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ini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b20000"/>
                </a:solidFill>
                <a:latin typeface="Menlo Regular"/>
                <a:ea typeface="Menlo Regular"/>
              </a:rPr>
              <a:t>//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for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i=100;i&lt;=200;i++)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f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i%3==0)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continue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Log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@"%d"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,i)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b20000"/>
                </a:solidFill>
                <a:latin typeface="Menlo Regular"/>
                <a:ea typeface="Menlo Regular"/>
              </a:rPr>
              <a:t>//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[pool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drain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0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习题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40" name=""/>
          <p:cNvSpPr/>
          <p:nvPr/>
        </p:nvSpPr>
        <p:spPr>
          <a:xfrm>
            <a:off x="1955880" y="3816360"/>
            <a:ext cx="908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1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求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10!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（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1*2*3*....*10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求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1!+2!+3!+.....+20!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3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求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2+22+222+222+2222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习题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42" name=""/>
          <p:cNvSpPr/>
          <p:nvPr/>
        </p:nvSpPr>
        <p:spPr>
          <a:xfrm>
            <a:off x="4051440" y="3263760"/>
            <a:ext cx="5790960" cy="41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在控制台中输出以下图案：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* * *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                  * * * * *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* * * * * * *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* * * * *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* * *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概述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8" name=""/>
          <p:cNvSpPr/>
          <p:nvPr/>
        </p:nvSpPr>
        <p:spPr>
          <a:xfrm>
            <a:off x="1765440" y="2813040"/>
            <a:ext cx="94741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在许多问题中需要用到循环控制。绝大多数的应用程序都包含循环。循环结构是结构化程序设计的基本结构之一，它和顺序结构、选择结构共同作为各种复杂程序的基本构造单元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goto</a:t>
            </a: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语句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0" name=""/>
          <p:cNvSpPr/>
          <p:nvPr/>
        </p:nvSpPr>
        <p:spPr>
          <a:xfrm>
            <a:off x="1092240" y="2406600"/>
            <a:ext cx="10807560" cy="62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to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语句为无条件转向语句，它的一般形式为：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oto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Heiti SC Light"/>
              </a:rPr>
              <a:t>语句标号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语句标号用标识符表示。例如：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oto label_1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结构化程序设计方法主张限制使用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to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语句，因为滥用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to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语句将使程序流程无规律、可读性差。但不是绝对禁止使用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to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语句。一般来说，有两种用途：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)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与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语句一起构成循环结构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)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从循环体中跳转到循环体外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26053"/>
                </a:solidFill>
                <a:latin typeface="Baskerville"/>
                <a:ea typeface="华文宋体"/>
              </a:rPr>
              <a:t>例：用</a:t>
            </a:r>
            <a:r>
              <a:rPr b="0" lang="en-US" sz="4800" spc="-1" strike="noStrike">
                <a:solidFill>
                  <a:srgbClr val="626053"/>
                </a:solidFill>
                <a:latin typeface="Baskerville"/>
                <a:ea typeface="华文宋体"/>
              </a:rPr>
              <a:t>if</a:t>
            </a:r>
            <a:r>
              <a:rPr b="0" lang="zh-CN" sz="4800" spc="-1" strike="noStrike">
                <a:solidFill>
                  <a:srgbClr val="626053"/>
                </a:solidFill>
                <a:latin typeface="Baskerville"/>
                <a:ea typeface="华文宋体"/>
              </a:rPr>
              <a:t>语句和</a:t>
            </a:r>
            <a:r>
              <a:rPr b="0" lang="en-US" sz="4800" spc="-1" strike="noStrike">
                <a:solidFill>
                  <a:srgbClr val="626053"/>
                </a:solidFill>
                <a:latin typeface="Baskerville"/>
                <a:ea typeface="华文宋体"/>
              </a:rPr>
              <a:t>goto</a:t>
            </a:r>
            <a:r>
              <a:rPr b="0" lang="zh-CN" sz="4800" spc="-1" strike="noStrike">
                <a:solidFill>
                  <a:srgbClr val="626053"/>
                </a:solidFill>
                <a:latin typeface="Baskerville"/>
                <a:ea typeface="华文宋体"/>
              </a:rPr>
              <a:t>语句求</a:t>
            </a:r>
            <a:r>
              <a:rPr b="0" lang="en-US" sz="4800" spc="-1" strike="noStrike">
                <a:solidFill>
                  <a:srgbClr val="626053"/>
                </a:solidFill>
                <a:latin typeface="Baskerville"/>
                <a:ea typeface="华文宋体"/>
              </a:rPr>
              <a:t>1+2+3+...+100</a:t>
            </a:r>
            <a:endParaRPr b="0" lang="en-US" sz="4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912" name=""/>
          <p:cNvSpPr/>
          <p:nvPr/>
        </p:nvSpPr>
        <p:spPr>
          <a:xfrm>
            <a:off x="1397160" y="2330280"/>
            <a:ext cx="10680480" cy="57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main (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argc,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cons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char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* argv[]) 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AutoreleasePool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* pool = [[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AutoreleasePool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alloc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ini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b20000"/>
                </a:solidFill>
                <a:latin typeface="Menlo Regular"/>
                <a:ea typeface="Menlo Regular"/>
              </a:rPr>
              <a:t>//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    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i=1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650"/>
                </a:solidFill>
                <a:latin typeface="Menlo Regular"/>
                <a:ea typeface="Menlo Regular"/>
              </a:rPr>
              <a:t>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595650"/>
                </a:solidFill>
                <a:latin typeface="Menlo Regular"/>
                <a:ea typeface="Menlo Regular"/>
              </a:rPr>
              <a:t> sum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aaa:  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f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i&lt;=100)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sum=sum+i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i++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 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goto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aaa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Log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@"%d"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, sum)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b20000"/>
                </a:solidFill>
                <a:latin typeface="Menlo Regular"/>
                <a:ea typeface="Menlo Regular"/>
              </a:rPr>
              <a:t>//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[pool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drain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0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while</a:t>
            </a: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语句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914" name="" descr=""/>
          <p:cNvPicPr/>
          <p:nvPr/>
        </p:nvPicPr>
        <p:blipFill>
          <a:blip r:embed="rId2"/>
          <a:stretch/>
        </p:blipFill>
        <p:spPr>
          <a:xfrm>
            <a:off x="6946920" y="2793960"/>
            <a:ext cx="3848040" cy="4154400"/>
          </a:xfrm>
          <a:prstGeom prst="rect">
            <a:avLst/>
          </a:prstGeom>
          <a:ln w="0">
            <a:noFill/>
          </a:ln>
        </p:spPr>
      </p:pic>
      <p:sp>
        <p:nvSpPr>
          <p:cNvPr id="915" name=""/>
          <p:cNvSpPr/>
          <p:nvPr/>
        </p:nvSpPr>
        <p:spPr>
          <a:xfrm>
            <a:off x="2705040" y="2082960"/>
            <a:ext cx="815364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l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语句是先判断循环条件是否成立，如果条件成立就执行循环体。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一般形式：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while (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Heiti SC Light"/>
              </a:rPr>
              <a:t>表达式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Heiti SC Light"/>
              </a:rPr>
              <a:t>语句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Heiti SC Light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26053"/>
                </a:solidFill>
                <a:latin typeface="Baskerville"/>
                <a:ea typeface="华文宋体"/>
              </a:rPr>
              <a:t>例：用</a:t>
            </a:r>
            <a:r>
              <a:rPr b="0" lang="en-US" sz="4800" spc="-1" strike="noStrike">
                <a:solidFill>
                  <a:srgbClr val="626053"/>
                </a:solidFill>
                <a:latin typeface="Baskerville"/>
                <a:ea typeface="华文宋体"/>
              </a:rPr>
              <a:t>while</a:t>
            </a:r>
            <a:r>
              <a:rPr b="0" lang="zh-CN" sz="4800" spc="-1" strike="noStrike">
                <a:solidFill>
                  <a:srgbClr val="626053"/>
                </a:solidFill>
                <a:latin typeface="Baskerville"/>
                <a:ea typeface="华文宋体"/>
              </a:rPr>
              <a:t>语句求</a:t>
            </a:r>
            <a:r>
              <a:rPr b="0" lang="en-US" sz="4800" spc="-1" strike="noStrike">
                <a:solidFill>
                  <a:srgbClr val="626053"/>
                </a:solidFill>
                <a:latin typeface="Baskerville"/>
                <a:ea typeface="华文宋体"/>
              </a:rPr>
              <a:t>1+2+3+...+100</a:t>
            </a:r>
            <a:endParaRPr b="0" lang="en-US" sz="4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917" name=""/>
          <p:cNvSpPr/>
          <p:nvPr/>
        </p:nvSpPr>
        <p:spPr>
          <a:xfrm>
            <a:off x="1701720" y="2425680"/>
            <a:ext cx="958860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main (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argc,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cons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char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* argv[]) 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AutoreleasePool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* pool = [[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AutoreleasePool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alloc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ini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b20000"/>
                </a:solidFill>
                <a:latin typeface="Menlo Regular"/>
                <a:ea typeface="Menlo Regular"/>
              </a:rPr>
              <a:t>//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i=1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sum=0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while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(i&lt;=100) 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sum = sum+i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i++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Log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@"%d"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,sum)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b20000"/>
                </a:solidFill>
                <a:latin typeface="Menlo Regular"/>
                <a:ea typeface="Menlo Regular"/>
              </a:rPr>
              <a:t>//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[pool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drain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0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用</a:t>
            </a:r>
            <a:r>
              <a:rPr b="0" lang="en-US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do...while</a:t>
            </a: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语句实现循环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919" name="" descr=""/>
          <p:cNvPicPr/>
          <p:nvPr/>
        </p:nvPicPr>
        <p:blipFill>
          <a:blip r:embed="rId2"/>
          <a:stretch/>
        </p:blipFill>
        <p:spPr>
          <a:xfrm>
            <a:off x="7581960" y="3873600"/>
            <a:ext cx="3136680" cy="3886200"/>
          </a:xfrm>
          <a:prstGeom prst="rect">
            <a:avLst/>
          </a:prstGeom>
          <a:ln w="0">
            <a:noFill/>
          </a:ln>
        </p:spPr>
      </p:pic>
      <p:sp>
        <p:nvSpPr>
          <p:cNvPr id="920" name=""/>
          <p:cNvSpPr/>
          <p:nvPr/>
        </p:nvSpPr>
        <p:spPr>
          <a:xfrm>
            <a:off x="1854360" y="2330280"/>
            <a:ext cx="9283680" cy="50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…whil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语句的是先执行循环体，然后判断循环条件是否成立。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一般形式为：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Heiti SC Light"/>
              </a:rPr>
              <a:t>          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Heiti SC Light"/>
              </a:rPr>
              <a:t>循环体语句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}while (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Heiti SC Light"/>
              </a:rPr>
              <a:t>表达式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;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26053"/>
                </a:solidFill>
                <a:latin typeface="Baskerville"/>
                <a:ea typeface="华文宋体"/>
              </a:rPr>
              <a:t>例：用</a:t>
            </a:r>
            <a:r>
              <a:rPr b="0" lang="en-US" sz="4800" spc="-1" strike="noStrike">
                <a:solidFill>
                  <a:srgbClr val="626053"/>
                </a:solidFill>
                <a:latin typeface="Baskerville"/>
                <a:ea typeface="华文宋体"/>
              </a:rPr>
              <a:t>do...while</a:t>
            </a:r>
            <a:r>
              <a:rPr b="0" lang="zh-CN" sz="4800" spc="-1" strike="noStrike">
                <a:solidFill>
                  <a:srgbClr val="626053"/>
                </a:solidFill>
                <a:latin typeface="Baskerville"/>
                <a:ea typeface="华文宋体"/>
              </a:rPr>
              <a:t>语句求</a:t>
            </a:r>
            <a:r>
              <a:rPr b="0" lang="en-US" sz="4800" spc="-1" strike="noStrike">
                <a:solidFill>
                  <a:srgbClr val="626053"/>
                </a:solidFill>
                <a:latin typeface="Baskerville"/>
                <a:ea typeface="华文宋体"/>
              </a:rPr>
              <a:t>1+2+3+...+100</a:t>
            </a:r>
            <a:endParaRPr b="0" lang="en-US" sz="4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922" name=""/>
          <p:cNvSpPr/>
          <p:nvPr/>
        </p:nvSpPr>
        <p:spPr>
          <a:xfrm>
            <a:off x="1562040" y="2413080"/>
            <a:ext cx="9867960" cy="54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main (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argc,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cons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char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* argv[]) 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AutoreleasePool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* pool = [[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AutoreleasePool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alloc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ini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b20000"/>
                </a:solidFill>
                <a:latin typeface="Menlo Regular"/>
                <a:ea typeface="Menlo Regular"/>
              </a:rPr>
              <a:t>//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i=1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sum=0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do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sum = sum+i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i++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}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while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i&lt;=100)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Log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@"%d"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,sum)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b20000"/>
                </a:solidFill>
                <a:latin typeface="Menlo Regular"/>
                <a:ea typeface="Menlo Regular"/>
              </a:rPr>
              <a:t>//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[pool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drain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0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1092240" y="1447920"/>
            <a:ext cx="10820520" cy="68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Heiti SC Light"/>
              </a:rPr>
              <a:t>while(</a:t>
            </a:r>
            <a:r>
              <a:rPr b="0" lang="zh-CN" sz="2400" spc="-1" strike="noStrike">
                <a:solidFill>
                  <a:srgbClr val="ffffff"/>
                </a:solidFill>
                <a:latin typeface="Courier New"/>
                <a:ea typeface="Heiti SC Light"/>
              </a:rPr>
              <a:t>判断条件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Heiti SC Light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Heiti SC Light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Heiti SC Light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Heiti SC Light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Heiti SC Light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Heiti SC Light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Courier New"/>
                <a:ea typeface="Heiti SC Light"/>
              </a:rPr>
              <a:t>这个语句首先要判断条件是否符合条件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Heiti SC Light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Courier New"/>
                <a:ea typeface="Heiti SC Light"/>
              </a:rPr>
              <a:t>要是符合条件 则执行大括号里面的语句模块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Heiti SC Light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Courier New"/>
                <a:ea typeface="Heiti SC Light"/>
              </a:rPr>
              <a:t>要是不符合条件 则越过大括号里面的语句执行下面的语句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Heiti SC Light"/>
              </a:rPr>
              <a:t>do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Heiti SC Light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Heiti SC Light"/>
              </a:rPr>
              <a:t>}while(</a:t>
            </a:r>
            <a:r>
              <a:rPr b="0" lang="zh-CN" sz="2400" spc="-1" strike="noStrike">
                <a:solidFill>
                  <a:srgbClr val="ffffff"/>
                </a:solidFill>
                <a:latin typeface="Courier New"/>
                <a:ea typeface="Heiti SC Light"/>
              </a:rPr>
              <a:t>判断条件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Heiti SC Light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Heiti SC Light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Courier New"/>
                <a:ea typeface="Heiti SC Light"/>
              </a:rPr>
              <a:t>这个语句先要执行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Heiti SC Light"/>
              </a:rPr>
              <a:t>do</a:t>
            </a:r>
            <a:r>
              <a:rPr b="0" lang="zh-CN" sz="2400" spc="-1" strike="noStrike">
                <a:solidFill>
                  <a:srgbClr val="ffffff"/>
                </a:solidFill>
                <a:latin typeface="Courier New"/>
                <a:ea typeface="Heiti SC Light"/>
              </a:rPr>
              <a:t>后面的语句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Heiti SC Light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Courier New"/>
                <a:ea typeface="Heiti SC Light"/>
              </a:rPr>
              <a:t>在进行判断条件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Heiti SC Light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Courier New"/>
                <a:ea typeface="Heiti SC Light"/>
              </a:rPr>
              <a:t>要是符合条件就再次执行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Heiti SC Light"/>
              </a:rPr>
              <a:t>DO</a:t>
            </a:r>
            <a:r>
              <a:rPr b="0" lang="zh-CN" sz="2400" spc="-1" strike="noStrike">
                <a:solidFill>
                  <a:srgbClr val="ffffff"/>
                </a:solidFill>
                <a:latin typeface="Courier New"/>
                <a:ea typeface="Heiti SC Light"/>
              </a:rPr>
              <a:t>后面的语句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Heiti SC Light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Courier New"/>
                <a:ea typeface="Heiti SC Light"/>
              </a:rPr>
              <a:t>要是不符合条件则执行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Heiti SC Light"/>
              </a:rPr>
              <a:t>WHILE</a:t>
            </a:r>
            <a:r>
              <a:rPr b="0" lang="zh-CN" sz="2400" spc="-1" strike="noStrike">
                <a:solidFill>
                  <a:srgbClr val="ffffff"/>
                </a:solidFill>
                <a:latin typeface="Courier New"/>
                <a:ea typeface="Heiti SC Light"/>
              </a:rPr>
              <a:t>后面的语句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ourier New"/>
                <a:ea typeface="Heiti SC Light"/>
              </a:rPr>
              <a:t>两者的区别就是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Heiti SC Light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Heiti SC Light"/>
              </a:rPr>
              <a:t>do...while</a:t>
            </a:r>
            <a:r>
              <a:rPr b="0" lang="zh-CN" sz="2400" spc="-1" strike="noStrike">
                <a:solidFill>
                  <a:srgbClr val="ff0000"/>
                </a:solidFill>
                <a:latin typeface="Courier New"/>
                <a:ea typeface="Heiti SC Light"/>
              </a:rPr>
              <a:t>语句不管是不是符合条件最少执行一次</a:t>
            </a:r>
            <a:r>
              <a:rPr b="0" lang="en-US" sz="2400" spc="-1" strike="noStrike">
                <a:solidFill>
                  <a:srgbClr val="7f007f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